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7F0-E87E-4DCB-A590-31178621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82A-E36D-414D-AAF2-A03B9D7B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EC189-B7D1-48B7-BEDE-30814F53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65F21-F779-4823-8EFB-A297FD16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92708-FAE0-418B-B64C-F6F04A9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64F56-2100-4244-974D-560DBF8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BB0548-37D7-4F0A-95B2-52133D0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60A49-FE9D-46F7-8837-05AAF58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E3154-2B1B-4037-A70C-1C3F37E4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C964F5-FDD3-4ED6-917A-B4983848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BEB4A6-E0AB-479E-A641-632BDF45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552D7-7F9B-4392-A13A-5F9F866A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07D-E1A9-488D-BC25-8D533167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2A910-BC9C-486C-8BB6-FAF14BC5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7B062-F6D9-4423-9FFB-7B1DF5C5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7B354-72D8-43C1-B3FE-5D7690C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9CE6E-D688-4337-A1F0-B5C5E4A8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3F0EA-10CD-4142-BEBA-A184E4A1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75360-B00A-4EA3-A36F-2FAB260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DA408-98E7-4DE4-9384-4530BE5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3B9A1-7039-4FDC-BEBA-2D64FAB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3A392-C80E-4EFC-8EF9-2BCBABDF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56549-C85B-4DBD-985E-C36E5045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2B1-4BC3-4F1C-BA67-3EB9238C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48A45-0EB2-4D3F-8D39-A4D7BFDA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11623-7153-4ADA-BA72-8FA29C96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9098B-F627-4849-AE0F-A25AA60C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DB8D2-96C1-4539-B909-BFDF74F3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6D9AD-188C-49C0-B1E6-85FDED8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07C01-17B6-4F0B-8EED-CD54E6AF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6F795-69E5-4E4F-849C-341AC466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97A45-A22E-47FB-8CEA-A1D2F850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7FB42-64B6-461A-A2C9-1E74B38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E635-7AEE-41C5-9AC4-40101BC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0B34-18F2-4BDF-9503-08ED7F92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A2898-5578-40A2-9EC6-60CC5B96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11679-B0A9-4715-A582-A54CBDF4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7DE97-5EE2-44C5-843D-C206D81B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3A339-7760-4C18-ADE6-97D9EF3E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373BB-FDDB-4D22-9DB2-DDDDC403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72C49-F885-4401-9C26-358C2B7E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5A927-60FE-43C3-A1C9-22105514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485E4-44DB-4FDE-96B0-331968A6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77EFF-9E1D-48DC-B0C6-C91D486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B886A-F345-4A65-8B75-25E0EB5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6B0F-BD0E-48C1-A065-704A9AD3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D4575-4550-444F-BB85-59771A1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5984D-E2DD-4A3D-8D28-406C2DA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18E7D-1A4A-4BE5-B5A1-06AAED7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EFE79-BC2A-4701-94D5-89317E09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9FE7E-929F-4059-98CC-C64C90A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81C9E-661B-4406-ACAE-51FC20D8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C3A65-51C4-43D1-B74B-EBF51FF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8ED63-0E23-4E84-B733-F740392F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A9879-FAB8-49CC-B565-B80E9F78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FBACC-ABA9-4C28-9C41-EAFFB0CD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5324-5C74-4EBF-BF02-D049380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B4DF6-0172-47CE-BF6F-764B5D02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DBAFF-0FDA-42D1-844D-68B19F6D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66E14-63FC-47C6-8C67-11D68CCD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A22B8-6E3D-450E-BBB5-0DD01EE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5584E-0C7C-4AF6-9DA6-34EE09E5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12A48-7B6F-4888-B3BD-4BCE1CD2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A17A1-1D03-4902-A83F-757B25FA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AD2FE-E6A4-4D9F-8F01-227F628E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D7C38-F74D-4C39-A616-B3392D5A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1C0A6-567E-4B7F-AA7F-53DEEE2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218E-B2EA-45BC-9EA2-76A4CB95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21663-80E2-4383-A9BF-5B529A01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ECD8D-8EEB-4FC2-BE8D-FCEBB142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C35BF-12C3-4BD7-9D84-D5DB7EEB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F094A-8067-4CCC-92CB-472D0205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3B7AE-24DD-45C0-8E5E-AA903FD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D46A5-085D-44D5-89A4-F4984C56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DDC9E-A763-47B4-8A5D-7CF98D0F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02994-13E3-42A6-B64B-44FD41E3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E5257-5539-4973-A880-E6BAA209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C365D-1F27-4301-BCE9-E4DC3163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FFF-B0B5-4D53-8F15-367C56F5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939AC-915F-4892-98A0-C1D215C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9D69B-D4E8-475B-855D-90D59123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72A6D-3A3A-4952-AF9B-0CF0DF14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56013-41F2-49A1-8B08-F2CE63B0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289CF-F37F-43C7-90A9-FD3BE823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DCDC3-8F0D-4990-AD1E-5267BC7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8F4EE-B4C9-4EA7-91BF-DABFA8B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5263F6-EDE6-44DA-A723-ED5FD9E7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605DE-E602-4A7B-ADD1-F0B1E3EA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CA900-32A6-461C-8C40-14CDFB4B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C7E-9587-45FA-A4F0-79E63743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1C3F4-AD55-4FB7-812D-57D75FB6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781433-F80B-41B0-9592-68058A70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3086EB-3060-4D0D-9F30-E94BB4B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535989-2A01-4B3D-B3B7-E38AD6D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A82704-F691-4A2D-A57E-8E1958B1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33C49F-A4E8-4560-BABD-66DC8CEF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25BBEB-ABCD-4E22-B500-539CEC3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9E9E6C-66A2-4764-B537-D0C83AB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4BCD08-3306-4FEC-81AB-FBA170FA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3ADBC2-395C-4507-A6F6-9461F7BF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2BAA-1F3A-4289-9683-83D50E60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D0E413-E345-45BD-8CDC-445410C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88F747-8BD1-48DE-9BF3-6403783D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F3304C-2329-4B5F-957F-D8D7373D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7E3-B16A-427A-A250-CE110E62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3B4F-4F16-43AC-A01E-0675CBA6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BECC-4152-4EAE-9CCB-31EAF40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4857-7AC4-4398-A17F-64011C68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67EF-052E-45F2-817C-CD3D3056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F36C-7D39-4998-BF3C-E7F8A912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C8BE-3DDB-4832-ADA5-F9D94F67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E8E8-7AB4-4D40-914B-CD02661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303E-A5CD-4E3A-9B88-8444C826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DC4A6-6E29-4BF0-A422-FC1EA87D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2836-37DC-4414-9FFF-E5B07DA8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273-6935-48FD-B29A-05F89E7D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E61E-E9EA-4241-B331-16C839A7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E893-21E9-41AC-B5E6-685C01B2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59A8-28C1-4241-B516-CA56FAD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E29A-DBAB-40C6-9CB5-822EAD6D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359D-1947-4E54-80F6-57D132E7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E36C-11DE-4C79-A26E-C6648C8A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6ABC-BEA4-4BB5-B4ED-AE491EC6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C532-2086-489F-A458-9F7F9F13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BA70-894E-41A5-A374-9CC7241B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F6A1-35D5-48C5-BD82-14592E1F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0D7-C147-426B-87D7-A6F6BE3E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C60D-EE79-48B7-A771-52C89C10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FF27-3070-4FC5-86B8-376217D8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A440-E915-49EF-AACE-784D51CF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AB879-2CD2-400F-82F1-58F86B08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64A4D-C6EB-4DF3-8458-EE11CD6D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FB48-53C4-4A5D-9C01-F1B0F45F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636ED-243C-4118-83AD-0E21CD14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8B03-9D69-47AD-8CB9-A9D65183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9B88-86CC-4810-B63A-E6FFFA11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62DD7-7A8D-4BC6-AEEC-B94910FC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FDA-4513-4145-85CA-03084A2B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CBE5-4EA7-4DB9-9F8E-58ABA10F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B68C3-5F1E-4C50-92A4-134502A0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C7B7-7A13-44E5-B742-66427E88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C072-FBAB-49A2-85B2-50B40A0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407A-5670-4C7F-8F7A-AE502197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BF22-9014-4497-9C50-B759E16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2739-D6F8-46E1-A80C-8D35A102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4EDC1-92AB-4523-AA48-3A39274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F160-B278-407A-B92E-FF2D1D19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5C4F0-1CA8-488E-9023-85E9D638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07E-CC68-4313-8FBE-34D15907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F901-3D0C-4AC3-8DFB-CDC5E01D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27FFA-BA76-43C8-8A2C-F1042160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F5FD-BD5E-4FFD-80F0-6862A447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F557-0B18-4056-822C-87060CDD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FE395-868F-425F-9131-6D941858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2F27-9F95-42D2-9CBF-E9923C9B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FD81C-2245-4F35-8924-FBADAD89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2CC47-CE56-4B00-8AB9-A81BA24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349F-6A7D-43A4-9351-2F15977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65380-ECC6-447D-B4F8-577FF5D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EA1-8AA8-462A-B51F-A93B6AD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02BCE-9D38-4083-8F44-A155E58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705C5-3793-4EC1-8F7F-62E9F53C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524D-86EC-4F7F-9BAB-BA768854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E59AF-E65D-4F95-A07D-BF7D396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48DD9-5FF5-48B3-8B55-1B77556E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63EC2-C538-4EF0-A0C5-D7528311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9C46-7E5D-4598-B160-D600571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3BF0-20A2-4883-8115-374DAE8F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4540-20C0-4756-84CE-FAF17123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3AE68-DD3A-4F7F-BF4D-E5E8941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84E-3FCF-4AB2-AEEB-11830E5E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6A3F3-3D12-42F6-84D3-690B0D7A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F92CA-9050-46ED-90BA-13AE801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E6192-2208-4356-8F7F-41960E7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4814-E02A-462A-B8CF-15B49EE8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FB02-F1A5-411A-9064-72E92236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BD6D-8714-4E83-BD31-C0EC9037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429AD-615D-4061-AF9F-0B3E0A69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21BA9-ACB3-4F59-8ED7-0B32601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A075-A628-4186-A510-71CA679F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4CE91-E287-42DC-AB8F-83F7B20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69F-D78C-485C-9BFE-AC21BCE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A259-E0E9-4479-9F27-8FCDCD1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ABA29-0AEC-491D-AE4C-5C8C6C1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7183-B738-47C3-A2A0-7ED0D95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DC2CE-7C94-4B2C-80B6-DAE77AF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63382-71A5-444D-BEEA-51C4EA6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FA798-E5F2-4457-B6AF-66328F8C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BCA04-7139-4572-BC68-866CE07A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9BCDB-2B99-4FD3-909C-53D0CC6D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E06A68-152A-427F-84D4-5523869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4C9DA-2DC2-466E-BFCC-FC3E704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E43-BEEE-4323-B526-20AB2F3D1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1537-D8E9-4345-B716-66CCF54FAF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E980-15FC-4C24-BFD5-0E7EE8BDABE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CD6B-DC35-4126-9B8A-3EBE51AFBF5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7B04-8BD9-4996-904E-F1059EAE4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4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F2D-515C-4DED-A2B2-42B3EB6B2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0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0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F28B-F4F9-40F3-81E2-FB6752CF1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C5A0-7923-4761-80D3-245D82194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320C-2B70-4F5B-A2E1-9F94A2FC2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D1C-2D78-4F33-80A1-47DD41BB17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8E3A-ECE3-4BF7-B798-53A9FDC786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E3E4-7700-44E3-A0FE-64C5BF88F6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CA3A-D045-458D-A1CE-451B6BC16D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711B-F5F4-4B2A-9D46-66DBE2A50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F4CE-7E6E-404B-AC3C-B6709AFAFE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83C-1D4D-44B6-95A1-3D4FEEA434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Juice ITC"/>
              </a:rPr>
              <a:t>Command V.S Free Mark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controls what you sell and the price of your goo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economy has impacted a few countr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Free Market lets you choose the products you sell and your pr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A lot of countries have free market ec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in wealth 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nsored by waff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20T13:54:29Z</dcterms:modified>
  <cp:revision>11</cp:revision>
  <dc:subject/>
  <dc:title>Russia’s Economy</dc:title>
</cp:coreProperties>
</file>